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image5.wmf" ContentType="image/x-wmf"/>
  <Override PartName="/ppt/media/image2.wmf" ContentType="image/x-wmf"/>
  <Override PartName="/ppt/media/image3.png" ContentType="image/png"/>
  <Override PartName="/ppt/media/carbrake.wav" ContentType="audio/x-wav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F20-1712-4554-ADE1-4654BD98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2AF-1D1C-4D03-B65C-D505CDB5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4FA-89E9-4CF2-93D0-768D91E9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943-5A25-42BC-8168-8C81CDDB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7C60-3443-41EA-9AC0-1FDDB662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7B18-88D2-4AEA-8AEA-18431CB7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B08F-F31B-451D-955C-25F96A7A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66D2-6254-4F6B-855D-039BE80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0F4-86F6-48DF-B1B4-1B07A33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DECE-7373-44D3-BA0C-8161D3D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9D9-0580-4130-B3AD-46BC6DA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BAD-B490-4B2D-9A73-B4B7D1C0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7961-73F3-468D-B39A-B725622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3C3A-E9C8-4BE8-952F-C174676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807-3B02-408D-A05C-ACE9B1B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3572-D7F9-47CD-8983-ECBE3438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6352-3878-4D84-A2A6-8DD5CC8B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090-B4DD-4E7B-9994-E4F17578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E02-5608-46C6-AED2-793FEFA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628-85AF-4698-807D-A823A1E2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B10-7EA9-4F7A-B261-6D78CE4F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C1B-B831-4A54-9358-208EA00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465-7F79-4E68-8047-9945246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E8C-37C7-4008-A815-5B4209D7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4B5-8FCB-42FE-B329-72DA7528D7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152D-DBCB-443F-A456-D6BBCCAE38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43000" y="380880"/>
            <a:ext cx="6248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ndment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967680" y="1336680"/>
            <a:ext cx="587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27 amendments to the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n =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 14, 15 = Civil War Amend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hibition- repealed by the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2819520"/>
            <a:ext cx="51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st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1902240" y="4114800"/>
            <a:ext cx="391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tablishmen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ee Exercise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Speech &amp;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00800" y="3276720"/>
            <a:ext cx="17064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4952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nd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1282680" y="205740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Right to keep and bear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577880" cy="1800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990720" y="2895480"/>
            <a:ext cx="51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rd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1562400" y="4237200"/>
            <a:ext cx="48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quartering of sold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n time of 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without consent of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080" y="586728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* Sound familiar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181480" y="5562720"/>
            <a:ext cx="10670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990720" y="533520"/>
            <a:ext cx="5181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452600" y="1905120"/>
            <a:ext cx="61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unreasonable searches and seiz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ust have probable ca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3200400"/>
            <a:ext cx="5334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1663200" y="454176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Right to Due process of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67880" y="50752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double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32680" y="563868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Don’t have to testify against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0880" y="60958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lead 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0" y="3581280"/>
            <a:ext cx="1413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66680" y="45720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6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2115360" y="186048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ight to a speedy and public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5160" y="22860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ight to a law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19320" y="312408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7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211480" y="45277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ight to a jury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76520" y="5029200"/>
            <a:ext cx="434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066680" y="45720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8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1726200" y="18288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No excessive b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304640" cy="1814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62200" y="22860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No cruel &amp; unusual pu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9320" y="274320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9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1900440" y="419112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People have rights beyond those l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371600" y="472428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>
            <a:off x="2032920" y="60199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Powers not listed are given to the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3:32:20Z</dcterms:created>
  <dc:creator>nalbert</dc:creator>
  <dc:description/>
  <dc:language>en-US</dc:language>
  <cp:lastModifiedBy>nalbert</cp:lastModifiedBy>
  <dcterms:modified xsi:type="dcterms:W3CDTF">2006-11-06T13:37:14Z</dcterms:modified>
  <cp:revision>3</cp:revision>
  <dc:subject/>
  <dc:title>PowerPoint Presentation</dc:title>
</cp:coreProperties>
</file>